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270F45-3D64-41F5-9C7A-47376ED941E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787971-4BE9-460C-920E-0272526FD4E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5DEC54-DFE6-4A15-9D69-F03B125E3B3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BA0AA2-0BDE-416F-8B53-A770F55809F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9A0AB5-3927-4DD7-94E8-F084E8A23B7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EB042B-4BF9-42FB-A435-DECAADD0516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8A2098-9BF7-4FD2-9FC2-9C612923C33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159A79-F427-4E0D-89AC-5B666751E05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FDEDF9-A336-455F-9A17-92BB92B292E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59F9BC-2929-457A-9115-73B611F9BF5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747878-15C1-48B9-B871-16F20C65081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C5A1BA-7479-41B4-9D88-6B42F3E6B9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BAB937-771A-4C11-A409-3E2DD6C9B59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1FC4C0-2686-4B2B-9949-B27450726EC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12C85D-C976-448B-9F07-B543FBD9BBC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CAE273-CE69-44B4-9F76-5A406DA66F7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04BDB1-26F9-475F-BE4D-5D62ADEA5C4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82CD6F-488C-440B-91F5-0E011FB7EBD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A3B-97FF-44D9-BEC6-56CFE5DD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497-F6B1-4AEC-B0BE-6B1D86ED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515-E188-4C99-9B4B-5520F983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6C2-B83E-44A9-9940-F78F3657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4368-5AF2-4A96-8DF8-67CE4098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92F-9D89-4B2B-B6D5-64FC76C3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244B-E338-46A5-863C-8009E70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B8B-36A3-4F97-A4A1-ED0A667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F0B-3B56-4B38-A9F5-6123AA18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CBBE-38F5-47F9-B8BA-5E039D4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D3F5-F33B-477F-9E01-360254A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D56-0585-474D-94DB-D36BDC9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4C4A-45A8-472E-B2F3-04228E2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B33C-195B-4FC1-8A76-E834334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94D1-0401-4B5D-A684-336509BF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C919-BD7D-4E26-96F3-AA123D59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8016-4586-4276-9D0C-0CA52295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1D3-29AE-4F2A-AB12-B00866E7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2F2-8954-4EA5-927D-7F9E1F9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AE5-B918-489A-AAE2-20617DBC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A96-BC47-4E97-9016-5EA69807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A50-2030-47BA-AAC0-5B0877F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8FB-1851-4B76-83EC-06CD150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8F5-6C7C-41D6-A38D-1C8B595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F42-9F8E-46E8-AA70-564F903F1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9805-9D48-4E2B-9083-C29EAB3B4EE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or the 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151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154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6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159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162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169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2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173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176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179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1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182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4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185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7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188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0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193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5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9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200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2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 = path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+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 exist many variants and their implementa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ves the prefix proble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lower: O(p) time, many cache mi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10 to 60 (or, even more) byte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71320" y="5992920"/>
            <a:ext cx="6599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s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syzigial syzygygy     szaibelyite 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o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0"/>
          <p:cNvSpPr/>
          <p:nvPr/>
        </p:nvSpPr>
        <p:spPr>
          <a:xfrm>
            <a:off x="2124000" y="4363920"/>
            <a:ext cx="20890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2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23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5" name="Text Box 59"/>
          <p:cNvSpPr/>
          <p:nvPr/>
        </p:nvSpPr>
        <p:spPr>
          <a:xfrm>
            <a:off x="4391280" y="3357720"/>
            <a:ext cx="4598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63"/>
          <p:cNvSpPr/>
          <p:nvPr/>
        </p:nvSpPr>
        <p:spPr>
          <a:xfrm>
            <a:off x="5292720" y="6215040"/>
            <a:ext cx="93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59"/>
          <p:cNvSpPr/>
          <p:nvPr/>
        </p:nvSpPr>
        <p:spPr>
          <a:xfrm>
            <a:off x="4535640" y="1857240"/>
            <a:ext cx="4310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482840" y="5857920"/>
            <a:ext cx="35938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5245200" y="5857920"/>
            <a:ext cx="284472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1547640" y="621504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di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236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9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240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241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5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6" name="Text Box 20"/>
          <p:cNvSpPr/>
          <p:nvPr/>
        </p:nvSpPr>
        <p:spPr>
          <a:xfrm>
            <a:off x="1042920" y="2252520"/>
            <a:ext cx="640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ile  syzygetic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 syzyg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7" name="Group 27"/>
          <p:cNvGrpSpPr/>
          <p:nvPr/>
        </p:nvGrpSpPr>
        <p:grpSpPr>
          <a:xfrm>
            <a:off x="2413080" y="2265480"/>
            <a:ext cx="4174560" cy="968760"/>
            <a:chOff x="2413080" y="2265480"/>
            <a:chExt cx="4174560" cy="968760"/>
          </a:xfrm>
        </p:grpSpPr>
        <p:sp>
          <p:nvSpPr>
            <p:cNvPr id="248" name="Rectangle 21"/>
            <p:cNvSpPr/>
            <p:nvPr/>
          </p:nvSpPr>
          <p:spPr>
            <a:xfrm>
              <a:off x="2413080" y="2265480"/>
              <a:ext cx="358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4068720" y="2265480"/>
              <a:ext cx="100620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5653080" y="2265480"/>
              <a:ext cx="934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242172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Text Box 25"/>
            <p:cNvSpPr/>
            <p:nvPr/>
          </p:nvSpPr>
          <p:spPr>
            <a:xfrm>
              <a:off x="436464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26"/>
            <p:cNvSpPr/>
            <p:nvPr/>
          </p:nvSpPr>
          <p:spPr>
            <a:xfrm>
              <a:off x="5813640" y="27687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1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62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4" name="Text Box 59"/>
          <p:cNvSpPr/>
          <p:nvPr/>
        </p:nvSpPr>
        <p:spPr>
          <a:xfrm>
            <a:off x="4397400" y="3357720"/>
            <a:ext cx="4651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59"/>
          <p:cNvSpPr/>
          <p:nvPr/>
        </p:nvSpPr>
        <p:spPr>
          <a:xfrm>
            <a:off x="4614840" y="1857240"/>
            <a:ext cx="4349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it-IT" sz="1600" spc="-1" strike="noStrike">
                <a:solidFill>
                  <a:srgbClr val="20ac6f"/>
                </a:solidFill>
                <a:latin typeface="Tahoma"/>
                <a:ea typeface="Tahoma"/>
              </a:rPr>
              <a:t>and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principal u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document(s) being inde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queries to retrieve “right” answ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flavo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olated 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eck each word on its own for misspel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hat about: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text-sensitive is more effect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ok at surrounding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undamental premise – there is a lexicon from which the correct spellings co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basic choices for th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standard lexicon such 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ster’s English Dictio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 “industry-specific” lexicon – hand-maintain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exicon of the indexed corp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all word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names, acronyms etc. (including the mis-spelling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ing algorithms to derive the possible correc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’s “closest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ll study several meas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ute-force check of 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query Q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character sequences within a preset (weighted) edit distance (e.g., 2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sect this set with list of “correct” 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w terms you found to user as sugges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ttangolo arrotondato 1"/>
          <p:cNvSpPr/>
          <p:nvPr/>
        </p:nvSpPr>
        <p:spPr>
          <a:xfrm>
            <a:off x="3203640" y="5589720"/>
            <a:ext cx="55832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How the time complexity grow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with #errors allowed and string length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is le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xact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olerant” retrieval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dit-distance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d-card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7648920" y="-331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</a:t>
            </a:r>
            <a:r>
              <a:rPr b="1" i="1" lang="en-US" sz="2600" spc="-1" strike="noStrike">
                <a:solidFill>
                  <a:srgbClr val="ff3300"/>
                </a:solidFill>
                <a:latin typeface="Lucida Sans"/>
              </a:rPr>
              <a:t>operation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(possibly, 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2 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Just 1 with transpos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80520" y="1700280"/>
            <a:ext cx="82947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dit distance to trans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i]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j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quence of ops: ins, del, subst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the edit distance as an alignment problem wher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ser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le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j] then last op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us it is not coun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herwise the last op is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bs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13000" y="4508640"/>
            <a:ext cx="6688080" cy="23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i, E(0,j)=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=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1 + min{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7744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24000" y="1628640"/>
          <a:ext cx="1966680" cy="1311480"/>
        </p:xfrm>
        <a:graphic>
          <a:graphicData uri="http://schemas.openxmlformats.org/drawingml/2006/table">
            <a:tbl>
              <a:tblPr/>
              <a:tblGrid>
                <a:gridCol w="984240"/>
                <a:gridCol w="98244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6" name="Connettore 2 3"/>
          <p:cNvCxnSpPr/>
          <p:nvPr/>
        </p:nvCxnSpPr>
        <p:spPr>
          <a:xfrm>
            <a:off x="684000" y="1916280"/>
            <a:ext cx="115164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7" name="CasellaDiTesto 4"/>
          <p:cNvSpPr/>
          <p:nvPr/>
        </p:nvSpPr>
        <p:spPr>
          <a:xfrm>
            <a:off x="816480" y="17161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8" name="Connettore 2 7"/>
          <p:cNvCxnSpPr/>
          <p:nvPr/>
        </p:nvCxnSpPr>
        <p:spPr>
          <a:xfrm>
            <a:off x="1834920" y="1916280"/>
            <a:ext cx="108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9" name="CasellaDiTesto 11"/>
          <p:cNvSpPr/>
          <p:nvPr/>
        </p:nvSpPr>
        <p:spPr>
          <a:xfrm>
            <a:off x="1810440" y="1828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CasellaDiTesto 12"/>
          <p:cNvSpPr/>
          <p:nvPr/>
        </p:nvSpPr>
        <p:spPr>
          <a:xfrm>
            <a:off x="780840" y="2349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1" name="Connettore 2 13"/>
          <p:cNvCxnSpPr/>
          <p:nvPr/>
        </p:nvCxnSpPr>
        <p:spPr>
          <a:xfrm>
            <a:off x="798480" y="2711160"/>
            <a:ext cx="1046880" cy="1476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ant to capture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1" i="1" lang="en-US" sz="2400" spc="-1" strike="noStrike">
                <a:solidFill>
                  <a:srgbClr val="ff3300"/>
                </a:solidFill>
                <a:latin typeface="Lucida Sans"/>
              </a:rPr>
              <a:t>smaller c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ed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P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ne-error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1-error = insertion, deletion or substitution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one single charac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a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substitu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agina 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inser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dele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string of length L over A chars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#variants = L (A-1) + (L+1)A + L = A * (2L+1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ould have many candid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can still deploy keyboard layout or other statistical information (web, wikipedia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ttangolo arrotondato 8"/>
          <p:cNvSpPr/>
          <p:nvPr/>
        </p:nvSpPr>
        <p:spPr>
          <a:xfrm>
            <a:off x="4788000" y="5445000"/>
            <a:ext cx="424800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Do we need to make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the enumera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reate two dictiona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1 = { strings 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2 = { strings of D1 with </a:t>
            </a:r>
            <a:r>
              <a:rPr b="0" i="1" lang="it-IT" sz="2400" spc="-1" strike="noStrike">
                <a:solidFill>
                  <a:srgbClr val="ff0000"/>
                </a:solidFill>
                <a:latin typeface="Lucida Sans"/>
              </a:rPr>
              <a:t>one deletion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</a:t>
            </a:r>
            <a:r>
              <a:rPr b="0" lang="it-IT" sz="26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 dag], da [dag], dg [dag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s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ct [cst], st [cst]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ct [cat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ttangolo arrotondato 8"/>
          <p:cNvSpPr/>
          <p:nvPr/>
        </p:nvSpPr>
        <p:spPr>
          <a:xfrm>
            <a:off x="5357880" y="5445000"/>
            <a:ext cx="367812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Assume a fast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string-check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in a dictiona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2920" y="1557000"/>
            <a:ext cx="867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dag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 [cast], cat [cast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t [cat;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 [dag], dg [dag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st [cst]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518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Query(«cat»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(P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(P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cat [cast]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search for {at, ct, ca} in D1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 match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e.g. {at,ct, ca} in D2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t [cat], ct [cat], </a:t>
            </a:r>
            <a:r>
              <a:rPr b="0" lang="it-IT" sz="2400" spc="-1" strike="noStrike">
                <a:solidFill>
                  <a:srgbClr val="0070c0"/>
                </a:solidFill>
                <a:latin typeface="Lucida Sans"/>
              </a:rPr>
              <a:t>ct [cst],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 [cat]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91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Query(P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 for P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 for P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1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We need 2p + 2 hash computations for 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Pr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PU efficient, no cache misses for computing P’s hashes; but O(p) cache misses to search in D1 and D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C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rge space because of the many strings in D2 which must be stored to search in the hash table of D2, unless we avoid collision (perfect hash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FALSE MATCHES: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tw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atches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s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s SUB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verlap vs Ed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ctionary data structure stores the term vocabulary, but…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 in what data structure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Lucida Sans"/>
              </a:rPr>
              <a:t>K-gram 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(useful for &gt;1 error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7524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contains for ev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ram (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=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) all terms including that k-gra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292400" y="409104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282680" y="462456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2057400" y="42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2057400" y="47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395520" y="40910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99960" y="347184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2057400" y="3633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355200" y="347184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381120" y="469116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002200" y="409104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5" name="AutoShape 13"/>
          <p:cNvCxnSpPr>
            <a:stCxn id="329" idx="3"/>
            <a:endCxn id="334" idx="1"/>
          </p:cNvCxnSpPr>
          <p:nvPr/>
        </p:nvCxnSpPr>
        <p:spPr>
          <a:xfrm>
            <a:off x="4509720" y="432396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 Box 14"/>
          <p:cNvSpPr/>
          <p:nvPr/>
        </p:nvSpPr>
        <p:spPr>
          <a:xfrm>
            <a:off x="4821840" y="3471840"/>
            <a:ext cx="115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7" name="AutoShape 15"/>
          <p:cNvCxnSpPr>
            <a:stCxn id="332" idx="3"/>
            <a:endCxn id="336" idx="1"/>
          </p:cNvCxnSpPr>
          <p:nvPr/>
        </p:nvCxnSpPr>
        <p:spPr>
          <a:xfrm>
            <a:off x="4254120" y="370476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Line 16"/>
          <p:cNvSpPr/>
          <p:nvPr/>
        </p:nvSpPr>
        <p:spPr>
          <a:xfrm>
            <a:off x="6095880" y="37101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6400800" y="4319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6095880" y="4929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4921920" y="46911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2" name="AutoShape 20"/>
          <p:cNvCxnSpPr>
            <a:stCxn id="333" idx="3"/>
            <a:endCxn id="341" idx="1"/>
          </p:cNvCxnSpPr>
          <p:nvPr/>
        </p:nvCxnSpPr>
        <p:spPr>
          <a:xfrm flipV="1">
            <a:off x="4495680" y="4890240"/>
            <a:ext cx="3880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tent Placeholder 23"/>
          <p:cNvSpPr/>
          <p:nvPr/>
        </p:nvSpPr>
        <p:spPr>
          <a:xfrm>
            <a:off x="684360" y="551808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end k-1 symbol $ at the front of each string, in order to generate a number L of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-grams for a string of length 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Overlap Distanc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umerate al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in Q = mon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$m, mo, 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17600" y="4754520"/>
            <a:ext cx="8618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index to rank all lexicon terms according to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number of match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moo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633680" y="315432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623960" y="368784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398680" y="330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398680" y="384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736800" y="315432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1641240" y="253512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2398680" y="2697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696480" y="253512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3722400" y="37544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343840" y="315432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13"/>
          <p:cNvCxnSpPr>
            <a:stCxn id="353" idx="3"/>
            <a:endCxn id="358" idx="1"/>
          </p:cNvCxnSpPr>
          <p:nvPr/>
        </p:nvCxnSpPr>
        <p:spPr>
          <a:xfrm>
            <a:off x="4851000" y="338724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 Box 14"/>
          <p:cNvSpPr/>
          <p:nvPr/>
        </p:nvSpPr>
        <p:spPr>
          <a:xfrm>
            <a:off x="5073480" y="2565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1" name="AutoShape 15"/>
          <p:cNvCxnSpPr>
            <a:stCxn id="356" idx="3"/>
            <a:endCxn id="360" idx="1"/>
          </p:cNvCxnSpPr>
          <p:nvPr/>
        </p:nvCxnSpPr>
        <p:spPr>
          <a:xfrm flipV="1">
            <a:off x="4595400" y="2764800"/>
            <a:ext cx="453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16"/>
          <p:cNvSpPr/>
          <p:nvPr/>
        </p:nvSpPr>
        <p:spPr>
          <a:xfrm>
            <a:off x="6021360" y="27734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17"/>
          <p:cNvSpPr/>
          <p:nvPr/>
        </p:nvSpPr>
        <p:spPr>
          <a:xfrm flipV="1">
            <a:off x="8028000" y="338148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7456320" y="4002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5263200" y="37893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6" name="AutoShape 20"/>
          <p:cNvCxnSpPr>
            <a:stCxn id="357" idx="3"/>
            <a:endCxn id="365" idx="1"/>
          </p:cNvCxnSpPr>
          <p:nvPr/>
        </p:nvCxnSpPr>
        <p:spPr>
          <a:xfrm>
            <a:off x="4836960" y="3987360"/>
            <a:ext cx="388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Text Box 14"/>
          <p:cNvSpPr/>
          <p:nvPr/>
        </p:nvSpPr>
        <p:spPr>
          <a:xfrm>
            <a:off x="7210080" y="317340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8" name="AutoShape 15"/>
          <p:cNvCxnSpPr>
            <a:endCxn id="367" idx="1"/>
          </p:cNvCxnSpPr>
          <p:nvPr/>
        </p:nvCxnSpPr>
        <p:spPr>
          <a:xfrm flipV="1">
            <a:off x="6732720" y="3373200"/>
            <a:ext cx="4528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Text Box 14"/>
          <p:cNvSpPr/>
          <p:nvPr/>
        </p:nvSpPr>
        <p:spPr>
          <a:xfrm>
            <a:off x="6526800" y="3789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0" name="AutoShape 20"/>
          <p:cNvCxnSpPr>
            <a:stCxn id="365" idx="3"/>
            <a:endCxn id="369" idx="1"/>
          </p:cNvCxnSpPr>
          <p:nvPr/>
        </p:nvCxnSpPr>
        <p:spPr>
          <a:xfrm flipV="1">
            <a:off x="6194160" y="3988800"/>
            <a:ext cx="30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lap Distance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versus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lect terms by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threshold on matchin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the term is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hars long (it consists of L k-gram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the number of allowed errors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(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of Q might be different from term’s ones because of the E errors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 at least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in Q must match a dictionary term to be a candidate answ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ED is required, post-filter results dyn pro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Rettangolo arrotondato 1"/>
          <p:cNvSpPr/>
          <p:nvPr/>
        </p:nvSpPr>
        <p:spPr>
          <a:xfrm>
            <a:off x="250920" y="5950080"/>
            <a:ext cx="8610480" cy="679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ecessary but not sufficient condition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=$mom, Q=$omo, L-E*k=3-1*2=1, T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Q = {mo,om} but EditDist = 2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with trigrams (K=3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uppose the term to compare is $$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novemb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n, $no, nov, ove, v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query 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</a:rPr>
              <a:t>Q =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$$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d, $de, dec, ece, c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1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1*3 = 5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NO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2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2*3 = 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OK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012000" y="2205000"/>
            <a:ext cx="2089080" cy="1944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ttangolo 1"/>
          <p:cNvSpPr/>
          <p:nvPr/>
        </p:nvSpPr>
        <p:spPr>
          <a:xfrm>
            <a:off x="108000" y="6237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-filter is needed to check that the distance &gt; 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 searching for k-gra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ume we wish to match the following bi-grams (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lo, or, 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against a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2-gram index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t over a dictionary of term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602720" y="3267000"/>
            <a:ext cx="44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602000" y="3800520"/>
            <a:ext cx="487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602720" y="4334040"/>
            <a:ext cx="48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2125800" y="34196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2125800" y="3952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2125800" y="4486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359160" y="3276720"/>
            <a:ext cx="98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4716360" y="327672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6024600" y="3276720"/>
            <a:ext cx="90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lo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737240" y="380988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6036120" y="3809880"/>
            <a:ext cx="121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orb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4812120" y="440064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178320" y="4400640"/>
            <a:ext cx="81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5" name="AutoShape 17"/>
          <p:cNvCxnSpPr>
            <a:stCxn id="388" idx="3"/>
            <a:endCxn id="389" idx="1"/>
          </p:cNvCxnSpPr>
          <p:nvPr/>
        </p:nvCxnSpPr>
        <p:spPr>
          <a:xfrm>
            <a:off x="4349880" y="3509640"/>
            <a:ext cx="367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Text Box 18"/>
          <p:cNvSpPr/>
          <p:nvPr/>
        </p:nvSpPr>
        <p:spPr>
          <a:xfrm>
            <a:off x="3364200" y="380988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7" name="AutoShape 19"/>
          <p:cNvCxnSpPr>
            <a:stCxn id="396" idx="3"/>
            <a:endCxn id="391" idx="1"/>
          </p:cNvCxnSpPr>
          <p:nvPr/>
        </p:nvCxnSpPr>
        <p:spPr>
          <a:xfrm>
            <a:off x="4530600" y="4043160"/>
            <a:ext cx="20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20"/>
          <p:cNvCxnSpPr>
            <a:stCxn id="391" idx="3"/>
            <a:endCxn id="392" idx="1"/>
          </p:cNvCxnSpPr>
          <p:nvPr/>
        </p:nvCxnSpPr>
        <p:spPr>
          <a:xfrm>
            <a:off x="5597280" y="4043160"/>
            <a:ext cx="4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21"/>
          <p:cNvCxnSpPr>
            <a:stCxn id="393" idx="3"/>
            <a:endCxn id="394" idx="1"/>
          </p:cNvCxnSpPr>
          <p:nvPr/>
        </p:nvCxnSpPr>
        <p:spPr>
          <a:xfrm>
            <a:off x="5978520" y="4633560"/>
            <a:ext cx="19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AutoShape 22"/>
          <p:cNvCxnSpPr>
            <a:stCxn id="389" idx="3"/>
            <a:endCxn id="390" idx="1"/>
          </p:cNvCxnSpPr>
          <p:nvPr/>
        </p:nvCxnSpPr>
        <p:spPr>
          <a:xfrm>
            <a:off x="5576400" y="35096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Text Box 23"/>
          <p:cNvSpPr/>
          <p:nvPr/>
        </p:nvSpPr>
        <p:spPr>
          <a:xfrm>
            <a:off x="3346200" y="4410000"/>
            <a:ext cx="114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r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2" name="AutoShape 24"/>
          <p:cNvCxnSpPr>
            <a:stCxn id="401" idx="3"/>
            <a:endCxn id="393" idx="1"/>
          </p:cNvCxnSpPr>
          <p:nvPr/>
        </p:nvCxnSpPr>
        <p:spPr>
          <a:xfrm flipV="1">
            <a:off x="4497480" y="4633560"/>
            <a:ext cx="2955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Rectangle 25"/>
          <p:cNvSpPr/>
          <p:nvPr/>
        </p:nvSpPr>
        <p:spPr>
          <a:xfrm>
            <a:off x="3200400" y="3200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3276720" y="4343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5" name="Group 27"/>
          <p:cNvGrpSpPr/>
          <p:nvPr/>
        </p:nvGrpSpPr>
        <p:grpSpPr>
          <a:xfrm>
            <a:off x="3276720" y="3733920"/>
            <a:ext cx="2743200" cy="1218960"/>
            <a:chOff x="3276720" y="3733920"/>
            <a:chExt cx="2743200" cy="1218960"/>
          </a:xfrm>
        </p:grpSpPr>
        <p:sp>
          <p:nvSpPr>
            <p:cNvPr id="406" name="Rectangle 28"/>
            <p:cNvSpPr/>
            <p:nvPr/>
          </p:nvSpPr>
          <p:spPr>
            <a:xfrm>
              <a:off x="3276720" y="3733920"/>
              <a:ext cx="12952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29"/>
            <p:cNvSpPr/>
            <p:nvPr/>
          </p:nvSpPr>
          <p:spPr>
            <a:xfrm>
              <a:off x="4724280" y="4343400"/>
              <a:ext cx="129564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8" name="Group 30"/>
          <p:cNvGrpSpPr/>
          <p:nvPr/>
        </p:nvGrpSpPr>
        <p:grpSpPr>
          <a:xfrm>
            <a:off x="4648320" y="3200400"/>
            <a:ext cx="1066680" cy="1143000"/>
            <a:chOff x="4648320" y="3200400"/>
            <a:chExt cx="1066680" cy="1143000"/>
          </a:xfrm>
        </p:grpSpPr>
        <p:sp>
          <p:nvSpPr>
            <p:cNvPr id="409" name="Rectangle 31"/>
            <p:cNvSpPr/>
            <p:nvPr/>
          </p:nvSpPr>
          <p:spPr>
            <a:xfrm>
              <a:off x="4648320" y="320040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Rectangle 32"/>
            <p:cNvSpPr/>
            <p:nvPr/>
          </p:nvSpPr>
          <p:spPr>
            <a:xfrm>
              <a:off x="4648320" y="373392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1" name="Rectangle 33"/>
          <p:cNvSpPr/>
          <p:nvPr/>
        </p:nvSpPr>
        <p:spPr>
          <a:xfrm>
            <a:off x="5943600" y="3733920"/>
            <a:ext cx="1371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6095880" y="4343400"/>
            <a:ext cx="9907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35"/>
          <p:cNvSpPr/>
          <p:nvPr/>
        </p:nvSpPr>
        <p:spPr>
          <a:xfrm>
            <a:off x="5943600" y="3200400"/>
            <a:ext cx="10666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AutoShape 36"/>
          <p:cNvSpPr/>
          <p:nvPr/>
        </p:nvSpPr>
        <p:spPr>
          <a:xfrm>
            <a:off x="811080" y="4999680"/>
            <a:ext cx="7261560" cy="1238040"/>
          </a:xfrm>
          <a:prstGeom prst="upArrowCallout">
            <a:avLst>
              <a:gd name="adj1" fmla="val 258154"/>
              <a:gd name="adj2" fmla="val 258103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tandard postings “merge” will enumerate term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with their cardina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37"/>
          <p:cNvSpPr/>
          <p:nvPr/>
        </p:nvSpPr>
        <p:spPr>
          <a:xfrm>
            <a:off x="916200" y="635148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Then choose terms if #occ possibly filter out &lt; L – k*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Box 37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Lucida Sans"/>
              </a:rPr>
              <a:t>Context-sensitiv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924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: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o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the phrase 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“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d like to respo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d you mean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from Heathro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cause no docs matched the query phras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issues in 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numerate multiple alternatives and then need to figure out which to present to the user for “Did you mean?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 heuristi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alternative hitting most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log analysis + tweak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especially popular, topical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ell-correction is computationally expensi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only on queries that matched few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ophisticated quer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ind all docs containing words beginning with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a Prefix-search data struc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*mon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words ending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intain a prefix-search data 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evers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17680" y="5370480"/>
            <a:ext cx="794196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solve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o*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intersect the two lists 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(expensiv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e*at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il*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may result in many Boole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solution: transform wild-card queries so that the *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occur at the e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gives rise to the </a:t>
            </a:r>
            <a:r>
              <a:rPr b="1" lang="en-US" sz="2600" spc="-1" strike="noStrike">
                <a:solidFill>
                  <a:srgbClr val="00a000"/>
                </a:solidFill>
                <a:latin typeface="Lucida Sans"/>
              </a:rPr>
              <a:t>Permu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naïve diction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508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 array of struc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r[20]      int           Postings 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20 bytes        4/8 bytes        4/8 bytes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store a dictionary in memory efficientl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quickly look up elements at query tim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80960" y="2502000"/>
            <a:ext cx="484668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ter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llo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dex und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hello$, ello$h, llo$he, lo$hel, o$hell, $hel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otate query wild-card to the righ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use prefix-search data struct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ermuterm problem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≈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4x lexicon 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AutoShape 1028"/>
          <p:cNvSpPr/>
          <p:nvPr/>
        </p:nvSpPr>
        <p:spPr>
          <a:xfrm>
            <a:off x="3282120" y="3813120"/>
            <a:ext cx="4183200" cy="598320"/>
          </a:xfrm>
          <a:prstGeom prst="upArrowCallout">
            <a:avLst>
              <a:gd name="adj1" fmla="val 174805"/>
              <a:gd name="adj2" fmla="val 174789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ass of heuristics to expand a query into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phone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quival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specific – mainly for nam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hebyshev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chebychef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for the U.S. census in 1918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urn every token to be indexed into a reduced form consisting of 4 cha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 the same with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d and search an index on the reduced fo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tain the first letter of the word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all occurrences of the following letters to '0' (zero)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  'A', E', 'I', 'O', 'U', 'H', 'W', 'Y'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rm0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letters to digits as follows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, F, P,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, G, J, K, Q, S, X,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,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,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0rm0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cont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pairs of consecutive equal digit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zeros from the resulting str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65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d the resulting string with trailing zeros and return the first four positions, which will be of the form &lt;uppercase letter&gt; &lt;digit&gt; &lt;digit&gt; &lt;digit&gt;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rman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so becomes H655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undex is the classic algorithm, provided by most databases (Oracle, Microsoft, …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t very useful – for information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kay for “high recall” tasks (e.g., Interpol), though biased to names of certain nationalit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algorithms for phonetic matching perform much better in the context of I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ha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itional inverted index (with skip pointe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ld-card i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ll-corr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could solve queries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SPELL(moriset) AND toron*to) 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OUNDEX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chaikofski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choi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e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me IR systems use hashes, some trees/t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27040" y="1852560"/>
            <a:ext cx="7813800" cy="3975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460840" y="236232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ttangolo 4"/>
          <p:cNvSpPr/>
          <p:nvPr/>
        </p:nvSpPr>
        <p:spPr>
          <a:xfrm>
            <a:off x="411120" y="5938920"/>
            <a:ext cx="81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The current vers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rmurHas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(vers 3) yields a 32-bit or 128-bit hash valu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nother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12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23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5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27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7" name="TextBox 40"/>
          <p:cNvSpPr/>
          <p:nvPr/>
        </p:nvSpPr>
        <p:spPr>
          <a:xfrm>
            <a:off x="408960" y="2357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41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42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bit len of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x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attern P is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Dict = {abaco, box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olo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rizio, pippo, zoo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20-10-27T09:52:00Z</dcterms:modified>
  <cp:revision>1219</cp:revision>
  <dc:subject/>
  <dc:title>Web Algorithmics</dc:title>
</cp:coreProperties>
</file>